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ACA-DA1A-40AC-97C3-4D87C232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835-77F7-4858-A54F-691178E9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936-7D4D-49F0-B82B-6AF67B87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A17-7F33-414B-8585-34836B2C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8A64-D7D1-4D51-A108-AA225F77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FBAB-0575-4985-A3A3-544722DA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63FB-E77B-455C-9BA8-C90B0046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D64D-1ECC-48CA-AB70-BE90043B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8B90-E97B-4128-A1F8-1AFAB19C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C3B1-D284-4150-9D8D-F55FD687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74D2-9923-4B69-AAAC-41CA8EDA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710-41E2-4079-85F4-6F391B14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4B97-BF52-4507-BA8F-DE506F9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64CA-DEEC-416F-92F2-F8BDEF1F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35CD-7F30-4561-A4D1-107BBCB3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63E8-DD55-493E-A0A7-E9189780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4A37-3DB9-428B-A3CB-253BB1E8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F567-DD4D-4834-AC61-1E2B3684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5B5F-247B-4644-8DB2-6E185090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9518-388B-4877-85CD-31A5F8B0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D552-8B41-4FCA-8171-E2425D9F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B1BA-0B5E-4551-82B1-520828B0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539-271E-490C-B437-DFFD1D99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74F7-56AE-42D6-8026-8DBA4809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B545-0E52-4FAE-BDB6-7D2B2E4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6BE8-E745-4DFC-8C5E-45BC371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2262-738E-432E-AE91-061D840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39D0-C046-451E-8815-70DDCA67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55BA-C542-4B6C-B096-77A8E257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E109F-D974-4397-915C-F11629C7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EC42-0E99-4ED9-8589-7056B6CC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802D-8D50-466E-BF53-62BA9921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7510F-06EA-4867-AB93-CD9D5770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927-2CAF-4066-A72E-B622E948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2D8F-A34D-4C47-884A-4AC9109D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8D35C-F751-44AD-9D83-00754EA2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5B80-4296-4419-B121-3C74EF79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D5E1A-5BF0-4AD8-B85B-BFFD269C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DD01-EBEC-4DCA-AA87-A9067447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EE857-E5F9-4259-9689-197AE709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C10D5-1E17-402A-8E27-1AA1AA22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DC8B-B4E0-4681-8F79-C07634C9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D5508-9321-4F8C-BB45-5B37231A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8CE7-C44D-4608-86FB-3823F74F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363-5DB4-42D4-A102-A355106F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2E61-EC46-4400-9AC2-A2EC2AE2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33BA7-C6A5-4550-9633-D710A98C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194EB-6F02-410E-99FC-82DBB2B5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99CC-9B6C-4845-8D23-5F3BE6A2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F2BE0-87B8-4E50-9D33-6CACAC09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04377-DFAA-4B98-A5C0-C37AB00D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9BFC1-184E-4251-8944-2598C27D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A1E70-BAEF-4631-8910-BC01B4F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CCBEE-B338-4A6E-AB0B-4B3F595B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5FD2F-42A7-4DC3-BB11-346D0E0D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2A9-1E9C-4431-BC6C-2E40C84F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A4C24-5597-49BC-BA79-0A043DB5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B5655-EA24-4B82-A726-77A4B917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31FB-6CDD-444A-BD07-575AE13E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8309B-6A80-473A-9484-3AB687D9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2D341-EAFB-44C7-9A77-1E67694C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47805-722B-4AA6-B84B-01A566F1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3CD05-DF86-4819-9A0F-9C2DED66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15167-97A3-4ACE-8901-EAD9A902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210B0-46BA-4DEB-B035-0EB4B22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C5B32-6B12-42F2-A83A-A39EE40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818-C7D9-40F1-9570-929AF681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B751D-86ED-4E8D-80B0-A5EFF9A9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283A2-3870-4C6D-B0CE-F9370275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FFB64-5AEC-47F2-98FB-E2B76CCD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6E1BF-39C6-4D80-BD9F-0902BB20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C38F0-C890-46CA-9445-643B2326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2A954-B7FE-46BD-A355-8D72EEF0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BA387-6796-413B-BE84-350FF2D5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8D694-89A8-4F24-BB51-238B0E82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92D34-1E87-4E70-AB42-C194FD3B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804A5-D490-46BE-BC19-7FC149ED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FBD-2C42-48F8-9D6A-895A8F90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29CC2-81D4-43EB-97C4-97F7D01F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CA129-1D58-4BBD-AA39-8772C831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B6290-F6AA-4096-8843-120CC93B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5F928-52BA-4DED-8B1A-7C32F591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D5B3-6984-46D5-9C08-87EB45CC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EEF-1667-49E4-92CD-5AABB922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76E4-1AF5-408B-9C8C-958B095B652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9D67-4F16-49C9-94D4-4BC776C1033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B198-2120-4423-AB8B-8931AAA0185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96C4-A1AF-4BF9-9841-226968A26FF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DAD6-E250-4DED-AAB1-924EDADB453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5AE9-2E4F-4654-8974-8618B0E110A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2906-792E-4574-B897-FEB55E1915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1857240" y="100224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-викторина по англий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учащихся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-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5835600" y="47149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Дулеп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Удачненск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5294160" cy="343512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1" descr=""/>
          <p:cNvPicPr/>
          <p:nvPr/>
        </p:nvPicPr>
        <p:blipFill>
          <a:blip r:embed="rId2"/>
          <a:stretch/>
        </p:blipFill>
        <p:spPr>
          <a:xfrm>
            <a:off x="189000" y="1500120"/>
            <a:ext cx="83325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1207800" y="1571760"/>
            <a:ext cx="637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white, cold and sw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ll children li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мороженое.jpg"/>
          <p:cNvPicPr/>
          <p:nvPr/>
        </p:nvPicPr>
        <p:blipFill>
          <a:blip r:embed="rId1"/>
          <a:stretch/>
        </p:blipFill>
        <p:spPr>
          <a:xfrm>
            <a:off x="3000240" y="1857240"/>
            <a:ext cx="3124440" cy="28339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2"/>
          <p:cNvSpPr/>
          <p:nvPr/>
        </p:nvSpPr>
        <p:spPr>
          <a:xfrm>
            <a:off x="3880080" y="51436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ce-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559440" y="171468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not a man, it’s not a woma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it teaches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" descr="книг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38520" cy="28512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2"/>
          <p:cNvSpPr/>
          <p:nvPr/>
        </p:nvSpPr>
        <p:spPr>
          <a:xfrm>
            <a:off x="3681720" y="50720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1049040" y="214200"/>
            <a:ext cx="64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6a08"/>
                </a:solidFill>
                <a:latin typeface="Candara"/>
              </a:rPr>
              <a:t>Match the proverb and its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3"/>
          <p:cNvSpPr/>
          <p:nvPr/>
        </p:nvSpPr>
        <p:spPr>
          <a:xfrm>
            <a:off x="0" y="928800"/>
            <a:ext cx="41432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 ne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5"/>
          <p:cNvSpPr/>
          <p:nvPr/>
        </p:nvSpPr>
        <p:spPr>
          <a:xfrm>
            <a:off x="0" y="3214800"/>
            <a:ext cx="307188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ll is well that end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6"/>
          <p:cNvSpPr/>
          <p:nvPr/>
        </p:nvSpPr>
        <p:spPr>
          <a:xfrm>
            <a:off x="2571840" y="2143080"/>
            <a:ext cx="37148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While there is life, there is h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7"/>
          <p:cNvSpPr/>
          <p:nvPr/>
        </p:nvSpPr>
        <p:spPr>
          <a:xfrm>
            <a:off x="357120" y="5143680"/>
            <a:ext cx="33577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You can’t eat cake and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8"/>
          <p:cNvSpPr/>
          <p:nvPr/>
        </p:nvSpPr>
        <p:spPr>
          <a:xfrm>
            <a:off x="3000240" y="4214880"/>
            <a:ext cx="27860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18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9"/>
          <p:cNvSpPr/>
          <p:nvPr/>
        </p:nvSpPr>
        <p:spPr>
          <a:xfrm>
            <a:off x="5857920" y="5000760"/>
            <a:ext cx="26431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No smoke without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10"/>
          <p:cNvSpPr/>
          <p:nvPr/>
        </p:nvSpPr>
        <p:spPr>
          <a:xfrm>
            <a:off x="6072120" y="3286080"/>
            <a:ext cx="27860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Better late than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11"/>
          <p:cNvSpPr/>
          <p:nvPr/>
        </p:nvSpPr>
        <p:spPr>
          <a:xfrm>
            <a:off x="5786280" y="928800"/>
            <a:ext cx="307188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wo is a company, but three is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0" y="71424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r>
              <a:rPr b="0" lang="ru-RU" sz="2000" spc="-1" strike="noStrike">
                <a:solidFill>
                  <a:srgbClr val="0066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"/>
          <p:cNvSpPr/>
          <p:nvPr/>
        </p:nvSpPr>
        <p:spPr>
          <a:xfrm>
            <a:off x="-225720" y="150012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-167400" y="221472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-144360" y="30002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-82800" y="3786120"/>
            <a:ext cx="172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20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7"/>
          <p:cNvSpPr/>
          <p:nvPr/>
        </p:nvSpPr>
        <p:spPr>
          <a:xfrm>
            <a:off x="-146520" y="442908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8"/>
          <p:cNvSpPr/>
          <p:nvPr/>
        </p:nvSpPr>
        <p:spPr>
          <a:xfrm>
            <a:off x="-200520" y="507204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9"/>
          <p:cNvSpPr/>
          <p:nvPr/>
        </p:nvSpPr>
        <p:spPr>
          <a:xfrm>
            <a:off x="-117720" y="57862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3860280" y="7142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Друзья познаются в 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3885840" y="150012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лиш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3382920" y="2214720"/>
            <a:ext cx="39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ка живу- надею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дежда умирает посл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2545200" y="300024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ё хорошо, что хорошо кон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5"/>
          <p:cNvSpPr/>
          <p:nvPr/>
        </p:nvSpPr>
        <p:spPr>
          <a:xfrm>
            <a:off x="1274400" y="37861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вкус и цвет товарищ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6"/>
          <p:cNvSpPr/>
          <p:nvPr/>
        </p:nvSpPr>
        <p:spPr>
          <a:xfrm>
            <a:off x="2313000" y="442908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3139200" y="5072040"/>
            <a:ext cx="43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 двумя зайцами погониш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 одного не пойм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8"/>
          <p:cNvSpPr/>
          <p:nvPr/>
        </p:nvSpPr>
        <p:spPr>
          <a:xfrm>
            <a:off x="2545920" y="5786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Нет дыма без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"/>
          <p:cNvSpPr/>
          <p:nvPr/>
        </p:nvSpPr>
        <p:spPr>
          <a:xfrm>
            <a:off x="642960" y="15001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 big house in the centre of the pi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house is yellow with red ro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 are  two windows in the house and one door. To the left of the house there is a gree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the right of the house there are two flowers. One flower is red, the second flower is blue. Under the tree there is a black d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ree there is a white fat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203040" y="221472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 have got four legs but I can’t w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1619280" y="90792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«Mistakes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95280" y="2205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peach, pear, chicken, apple,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ail, cat, mouse, dog, 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ird, airplane, kite, helicopter,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d, sun, green, purple,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old, warm, dry, sky, clo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2340000" y="9810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eck yoursel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468360" y="227664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peach, pear,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chicke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apple, ban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ai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at, mouse, dog,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i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irplane, kite, helicopter,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red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green, purple,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cold, warm, dry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k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lo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900000" y="1125360"/>
            <a:ext cx="72723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умайте как можно больше новых слов, используя буквы данного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acknowledgement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1590840"/>
            <a:ext cx="7718400" cy="15667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3143160" y="4071960"/>
            <a:ext cx="2190960" cy="208584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6" descr=""/>
          <p:cNvPicPr/>
          <p:nvPr/>
        </p:nvPicPr>
        <p:blipFill>
          <a:blip r:embed="rId3"/>
          <a:stretch/>
        </p:blipFill>
        <p:spPr>
          <a:xfrm>
            <a:off x="3279600" y="2876400"/>
            <a:ext cx="22672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1" descr="стол.bmp"/>
          <p:cNvPicPr/>
          <p:nvPr/>
        </p:nvPicPr>
        <p:blipFill>
          <a:blip r:embed="rId1"/>
          <a:stretch/>
        </p:blipFill>
        <p:spPr>
          <a:xfrm>
            <a:off x="1643040" y="2071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" descr="стул.bmp"/>
          <p:cNvPicPr/>
          <p:nvPr/>
        </p:nvPicPr>
        <p:blipFill>
          <a:blip r:embed="rId2"/>
          <a:stretch/>
        </p:blipFill>
        <p:spPr>
          <a:xfrm>
            <a:off x="5143680" y="20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"/>
          <p:cNvSpPr/>
          <p:nvPr/>
        </p:nvSpPr>
        <p:spPr>
          <a:xfrm>
            <a:off x="2103120" y="4572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5669640" y="4643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228240" y="1857240"/>
            <a:ext cx="89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’m tall and green, I’m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1233826343_the_isolated_tree_vector.jpg"/>
          <p:cNvPicPr/>
          <p:nvPr/>
        </p:nvPicPr>
        <p:blipFill>
          <a:blip r:embed="rId1"/>
          <a:stretch/>
        </p:blipFill>
        <p:spPr>
          <a:xfrm>
            <a:off x="2286000" y="1000080"/>
            <a:ext cx="4068720" cy="50720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961800" y="62150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459720" y="1643040"/>
            <a:ext cx="79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does not have legs, but it g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1" descr="часы.jpg"/>
          <p:cNvPicPr/>
          <p:nvPr/>
        </p:nvPicPr>
        <p:blipFill>
          <a:blip r:embed="rId1"/>
          <a:stretch/>
        </p:blipFill>
        <p:spPr>
          <a:xfrm>
            <a:off x="2857680" y="1722600"/>
            <a:ext cx="2786040" cy="277308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3822840" y="5000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1005480" y="1357200"/>
            <a:ext cx="72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wo brother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they don’t see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1" descr="глаза.jpg"/>
          <p:cNvPicPr/>
          <p:nvPr/>
        </p:nvPicPr>
        <p:blipFill>
          <a:blip r:embed="rId1"/>
          <a:stretch/>
        </p:blipFill>
        <p:spPr>
          <a:xfrm>
            <a:off x="2857680" y="185724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2"/>
          <p:cNvSpPr/>
          <p:nvPr/>
        </p:nvSpPr>
        <p:spPr>
          <a:xfrm>
            <a:off x="4257720" y="4857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47:33Z</dcterms:created>
  <dc:creator>andy</dc:creator>
  <dc:description/>
  <dc:language>en-US</dc:language>
  <cp:lastModifiedBy>RePack by Diakov</cp:lastModifiedBy>
  <dcterms:modified xsi:type="dcterms:W3CDTF">2016-02-23T12:06:10Z</dcterms:modified>
  <cp:revision>43</cp:revision>
  <dc:subject/>
  <dc:title>Слайд 1</dc:title>
</cp:coreProperties>
</file>